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C0463-745B-4F24-8722-A9F94E85F6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going into details here – can talk individually or people can read our working paper, but I don’t want to bore people with the math – it’s not the point to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have synthetic PS data with known start times, but these 4 should be enoug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that it’s clear what I mean by start time configur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rix of nConfigs rows and nProcessInstances columns.  Each row has an associated probabi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vidual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 data with no noise – sum of individual respon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: second process starts 5 sec. after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D: second process starts 5 sec. after first.  D process starts 2-4 seconds after second pro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data with N(0,0.1) noise added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ected value data after converg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3 iter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tart time configuration possibilities consisting of combinations of the true start time and one tick late (for each proc in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pes are clear, with effects of noise slightly distorting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(0,0.1) noise ag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and S start times are kn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process starts 5 seconds after the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process begins 2-4 seconds after the second pro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ain, shapes clear through no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m’s results with real data for one su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ROIs averaged into supervox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ast time I talked to the grou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 data as example (throughout talk) – can’t add overlapping decision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ission distributions must govern entire response (8 seconds) or we lose all sense of shape – S S S S sequence produces 4 observations from the same dis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Markov chains – one for P, S, D – 1 when the state is ‘on’, 0 for ‘off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history like the NIPS paper we read together (arrows forward to future observ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s between ch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arrow adds complex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’t need to consider every possible sequence of 0s and 1s – e.g. we don’t want to allow 01010101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easy intuitive way to encode a constraint (like a boxcar shape: 0001111111111000000000000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es along with theme of group meetings (stop making silly assumptions and start using domain knowledge) – e.g. feature selection discu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ltimate goal is to bridge the gap between high level theoretical cognitive models and fMRI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a model that is intuitive enough for cognitive scientists to encode background knowledge, and that is tractably learnable.  This is a step in that 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to fHMM.  Markov chains are replaced with proces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es can influence various brain regions with their emission distribu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es can interact with each other – e.g. process A cannot begin until process B do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n’t been using the input/output/interaction params yet, but will be part of the general frame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some point could move to process-dependent HDRd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rocess can be instantiated zero or more times over the interval of observed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the difference between a process and a process instance is cl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what we’re using now for an emission distribution, but in general we could use anything – e.g. a gamma function with 3 param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70B8-347C-4757-98B7-CED98A62A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E6C6-AE8E-4058-A0D9-36E386A47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8CAE-CCC8-4175-A4A9-95D94D47C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1B50-A4C5-4948-9F6C-BA3289DA4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4BFC5-0FB9-448F-88C1-D29B08177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9B986-ED46-4CE5-A4D7-A1E1C2D99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54A45-D78A-4C94-973E-44C784F61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98EB7-8030-4833-A832-96A429B51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86BF7-A835-4EB8-B7E6-E0869BADF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7867D-6443-45FE-8896-3BAB67545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868B6-8589-4F90-8DA3-6F48BB30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50E7-9EC7-4DBD-8FF2-EDE86DD17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5A6C4-A7E6-4DC9-97F6-2DC63389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2453D-F164-46C0-83F0-51EB3F5F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916CC-8E18-459D-BD19-0963A9FC6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00E30-65DB-4BFD-B7ED-374E5E4D5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5D1D6-E7AB-44CC-AD4C-377B82906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66DE-A571-40D3-A6AC-3D817158F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1F1E-9107-4A98-978A-53037F555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F2D0-8614-4C72-B27D-E16B08D6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0CF1-9714-43B6-A387-A621E1AFE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C4D2-A18D-4C84-9E89-5E940ACD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9300-86F0-4D0C-A8B5-2D811024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48FF-F6C6-49F1-B090-EC27B662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065F4-9438-4389-A2A5-71EB4D27D7E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D8F66-E927-429A-B4C9-F1C8154CA22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dden Process Mod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becca Hutchins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oint work with Tom Mitche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7-16-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arning HP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observed fMRI data, and unobserved start time configurations for the process insta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ctation-Maximization (E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 step: estimate a distribution on the start time configu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 step: use gradient ascent to update the process weights based on the new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hetic PS data with unknown start tim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hetic PSD data with some known start tim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l PS data with known start tim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l PSD data with known start tim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ynthetic D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-457200" y="2133720"/>
            <a:ext cx="6019920" cy="4519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5029200" y="0"/>
            <a:ext cx="4419720" cy="3317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5105520" y="3505320"/>
            <a:ext cx="44193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ynthetic PS data with unknown start tim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-914400" y="2057400"/>
            <a:ext cx="10744200" cy="24382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-914400" y="4495680"/>
            <a:ext cx="107442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arned weigh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4800600" cy="36050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4419720" y="2133720"/>
            <a:ext cx="4876560" cy="36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ynthetic PSD data with some known start tim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-533520" y="2057400"/>
            <a:ext cx="10515600" cy="25146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-533520" y="4495680"/>
            <a:ext cx="10515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arned Weigh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3200400" cy="48006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2895480" y="2057400"/>
            <a:ext cx="3200400" cy="48006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5867280" y="2057400"/>
            <a:ext cx="3429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rcRect l="0" t="13997" r="0" b="6704"/>
          <a:stretch/>
        </p:blipFill>
        <p:spPr>
          <a:xfrm>
            <a:off x="-990720" y="2057400"/>
            <a:ext cx="10820520" cy="499284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al PS data with known start tim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5029200"/>
            <a:ext cx="9144000" cy="2895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6019920" y="6094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bserved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095880" y="304812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xpected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19320" y="6400800"/>
            <a:ext cx="1523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icture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114800" y="4876920"/>
            <a:ext cx="1676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entence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943600" y="4429080"/>
            <a:ext cx="2971800" cy="244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SSP data.  Known start times, R=20 (10 sec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fter 22 iteration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M learning rate .0001 (needed it low to assure increasing data likelihoo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gP(Y|S) ~ 4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28600" y="739152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reproduce, use try-PSSP-7-13-04.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1143000" y="5715000"/>
            <a:ext cx="1523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icture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733920" y="6324480"/>
            <a:ext cx="16761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entence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324480" y="289548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xpected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410080" y="5715000"/>
            <a:ext cx="15242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6172200"/>
            <a:ext cx="3581280" cy="70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uplicate using try-PSSP-7-13-04b.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010280" y="4419720"/>
            <a:ext cx="2133720" cy="244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SSP data.  Known start times, 3 processes    R=20 (10 sec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fter 20 iteration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arning rate .000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gP(Y|S) ~ 5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lk 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vation for new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dden Process Model defin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ief description of learning algorith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preliminary resul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for questions and sugges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Wor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testing with real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d up/improve learning algorith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ale up to more start time configur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re to other metho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ify with Indra’s work on deconvol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uestions and Com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dden Markov Models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(HMMs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373356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overlapping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rkov assumption caused time granularity probl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1752480" y="2209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43200" y="2209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33920" y="2209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24280" y="2209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15000" y="2209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t+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2209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t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2209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2209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52480" y="2209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t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endCxn id="120" idx="2"/>
          </p:cNvCxnSpPr>
          <p:nvPr/>
        </p:nvCxnSpPr>
        <p:spPr>
          <a:xfrm>
            <a:off x="12189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/>
          <p:nvPr/>
        </p:nvCxnSpPr>
        <p:spPr>
          <a:xfrm>
            <a:off x="2209680" y="2437920"/>
            <a:ext cx="534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/>
          <p:nvPr/>
        </p:nvCxnSpPr>
        <p:spPr>
          <a:xfrm>
            <a:off x="3200400" y="2437920"/>
            <a:ext cx="534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/>
          <p:nvPr/>
        </p:nvCxnSpPr>
        <p:spPr>
          <a:xfrm>
            <a:off x="4190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/>
          <p:nvPr/>
        </p:nvCxnSpPr>
        <p:spPr>
          <a:xfrm>
            <a:off x="5181480" y="2437920"/>
            <a:ext cx="534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/>
          <p:nvPr/>
        </p:nvCxnSpPr>
        <p:spPr>
          <a:xfrm>
            <a:off x="6172200" y="2437920"/>
            <a:ext cx="534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1587600" y="3124080"/>
            <a:ext cx="860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mr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t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644560" y="3098880"/>
            <a:ext cx="72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mr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47600" y="3098880"/>
            <a:ext cx="89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mr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t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80560" y="3098880"/>
            <a:ext cx="89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mr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14280" y="3098880"/>
            <a:ext cx="89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mr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t+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>
            <a:stCxn id="120" idx="4"/>
            <a:endCxn id="127" idx="0"/>
          </p:cNvCxnSpPr>
          <p:nvPr/>
        </p:nvCxnSpPr>
        <p:spPr>
          <a:xfrm>
            <a:off x="1981080" y="2666880"/>
            <a:ext cx="3744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3" name=""/>
          <p:cNvCxnSpPr/>
          <p:nvPr/>
        </p:nvCxnSpPr>
        <p:spPr>
          <a:xfrm>
            <a:off x="2971440" y="2666880"/>
            <a:ext cx="3708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"/>
          <p:cNvCxnSpPr/>
          <p:nvPr/>
        </p:nvCxnSpPr>
        <p:spPr>
          <a:xfrm>
            <a:off x="3962160" y="2666880"/>
            <a:ext cx="3708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/>
          <p:nvPr/>
        </p:nvCxnSpPr>
        <p:spPr>
          <a:xfrm>
            <a:off x="4952880" y="2666880"/>
            <a:ext cx="3744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" name=""/>
          <p:cNvCxnSpPr/>
          <p:nvPr/>
        </p:nvCxnSpPr>
        <p:spPr>
          <a:xfrm>
            <a:off x="5943240" y="2666880"/>
            <a:ext cx="3708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ctorial HM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45716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extensions to this model help (can add state history, interaction between chains,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up with a lot of unnecessary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190512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8620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86728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t+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7692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t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8620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90512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t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endCxn id="147" idx="2"/>
          </p:cNvCxnSpPr>
          <p:nvPr/>
        </p:nvCxnSpPr>
        <p:spPr>
          <a:xfrm>
            <a:off x="1371600" y="3428640"/>
            <a:ext cx="534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"/>
          <p:cNvCxnSpPr/>
          <p:nvPr/>
        </p:nvCxnSpPr>
        <p:spPr>
          <a:xfrm>
            <a:off x="2361960" y="342864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"/>
          <p:cNvCxnSpPr/>
          <p:nvPr/>
        </p:nvCxnSpPr>
        <p:spPr>
          <a:xfrm>
            <a:off x="3352680" y="3428640"/>
            <a:ext cx="534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/>
          <p:nvPr/>
        </p:nvCxnSpPr>
        <p:spPr>
          <a:xfrm>
            <a:off x="4343400" y="3428640"/>
            <a:ext cx="534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/>
          <p:nvPr/>
        </p:nvCxnSpPr>
        <p:spPr>
          <a:xfrm>
            <a:off x="5333760" y="342864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"/>
          <p:cNvCxnSpPr/>
          <p:nvPr/>
        </p:nvCxnSpPr>
        <p:spPr>
          <a:xfrm>
            <a:off x="6324480" y="3428640"/>
            <a:ext cx="534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1739880" y="4114800"/>
            <a:ext cx="860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mr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t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96840" y="4089240"/>
            <a:ext cx="72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mr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99880" y="4089240"/>
            <a:ext cx="89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mr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t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733200" y="4089240"/>
            <a:ext cx="89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mr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866560" y="4089240"/>
            <a:ext cx="89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mr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t+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47" idx="4"/>
            <a:endCxn id="154" idx="0"/>
          </p:cNvCxnSpPr>
          <p:nvPr/>
        </p:nvCxnSpPr>
        <p:spPr>
          <a:xfrm>
            <a:off x="2133360" y="3657600"/>
            <a:ext cx="37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/>
          <p:nvPr/>
        </p:nvCxnSpPr>
        <p:spPr>
          <a:xfrm>
            <a:off x="3124080" y="3657240"/>
            <a:ext cx="3744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/>
          <p:nvPr/>
        </p:nvCxnSpPr>
        <p:spPr>
          <a:xfrm>
            <a:off x="4114440" y="3657240"/>
            <a:ext cx="37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/>
          <p:nvPr/>
        </p:nvCxnSpPr>
        <p:spPr>
          <a:xfrm>
            <a:off x="5105160" y="3657240"/>
            <a:ext cx="37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" name=""/>
          <p:cNvCxnSpPr/>
          <p:nvPr/>
        </p:nvCxnSpPr>
        <p:spPr>
          <a:xfrm>
            <a:off x="6095880" y="3657240"/>
            <a:ext cx="3744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4" name=""/>
          <p:cNvSpPr/>
          <p:nvPr/>
        </p:nvSpPr>
        <p:spPr>
          <a:xfrm>
            <a:off x="190512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89548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8620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7692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86728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t+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87692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t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89548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90512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t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"/>
          <p:cNvCxnSpPr>
            <a:endCxn id="172" idx="2"/>
          </p:cNvCxnSpPr>
          <p:nvPr/>
        </p:nvCxnSpPr>
        <p:spPr>
          <a:xfrm>
            <a:off x="1371600" y="2742840"/>
            <a:ext cx="534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/>
          <p:nvPr/>
        </p:nvCxnSpPr>
        <p:spPr>
          <a:xfrm>
            <a:off x="2361960" y="274284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/>
          <p:nvPr/>
        </p:nvCxnSpPr>
        <p:spPr>
          <a:xfrm>
            <a:off x="3352680" y="2742840"/>
            <a:ext cx="534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/>
          <p:nvPr/>
        </p:nvCxnSpPr>
        <p:spPr>
          <a:xfrm>
            <a:off x="4343400" y="2742840"/>
            <a:ext cx="534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"/>
          <p:cNvCxnSpPr/>
          <p:nvPr/>
        </p:nvCxnSpPr>
        <p:spPr>
          <a:xfrm>
            <a:off x="5333760" y="274284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/>
          <p:nvPr/>
        </p:nvCxnSpPr>
        <p:spPr>
          <a:xfrm>
            <a:off x="6324480" y="2742840"/>
            <a:ext cx="534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9" name=""/>
          <p:cNvSpPr/>
          <p:nvPr/>
        </p:nvSpPr>
        <p:spPr>
          <a:xfrm>
            <a:off x="1905120" y="1828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95480" y="1828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886200" y="1828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76920" y="1828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867280" y="1828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t+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76920" y="1828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t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886200" y="1828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895480" y="1828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1828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t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endCxn id="187" idx="2"/>
          </p:cNvCxnSpPr>
          <p:nvPr/>
        </p:nvCxnSpPr>
        <p:spPr>
          <a:xfrm>
            <a:off x="1371600" y="2057040"/>
            <a:ext cx="534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"/>
          <p:cNvCxnSpPr/>
          <p:nvPr/>
        </p:nvCxnSpPr>
        <p:spPr>
          <a:xfrm>
            <a:off x="2361960" y="205704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0" name=""/>
          <p:cNvCxnSpPr/>
          <p:nvPr/>
        </p:nvCxnSpPr>
        <p:spPr>
          <a:xfrm>
            <a:off x="3352680" y="2057040"/>
            <a:ext cx="534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1" name=""/>
          <p:cNvCxnSpPr/>
          <p:nvPr/>
        </p:nvCxnSpPr>
        <p:spPr>
          <a:xfrm>
            <a:off x="4343400" y="2057040"/>
            <a:ext cx="534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2" name=""/>
          <p:cNvCxnSpPr/>
          <p:nvPr/>
        </p:nvCxnSpPr>
        <p:spPr>
          <a:xfrm>
            <a:off x="5333760" y="205704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3" name=""/>
          <p:cNvCxnSpPr/>
          <p:nvPr/>
        </p:nvCxnSpPr>
        <p:spPr>
          <a:xfrm>
            <a:off x="6324480" y="2057040"/>
            <a:ext cx="534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4" name=""/>
          <p:cNvSpPr/>
          <p:nvPr/>
        </p:nvSpPr>
        <p:spPr>
          <a:xfrm flipH="1">
            <a:off x="2057400" y="2971800"/>
            <a:ext cx="763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1981080" y="2286000"/>
            <a:ext cx="15264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3047760" y="2971800"/>
            <a:ext cx="759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2971440" y="2286000"/>
            <a:ext cx="15228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4038480" y="2971800"/>
            <a:ext cx="763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962160" y="2286000"/>
            <a:ext cx="15228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5029200" y="2971800"/>
            <a:ext cx="763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4876560" y="2286000"/>
            <a:ext cx="22860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6019560" y="2971800"/>
            <a:ext cx="7596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5866920" y="2286000"/>
            <a:ext cx="22860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dden Process Models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(HPMs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 processes instead of discrete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ove the Markov assum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sier to encode background knowledg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ewer parameters than earlier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PMs: Defi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t of proc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I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put/Output/Interaction parame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mission Distrib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tuple of standard deviations: one for each of the V observed fea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-independ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modynamic response dur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-independ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this talk, HDRduration = 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Generative Mod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HP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et of M process instanc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ed data is modeled as a linear combination of the emission distributions of the relevant process insta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tai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ission distribution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+1 weights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here 0 &lt;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&lt;= 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the contribution of this process to voxel v at startTime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vt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~ N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v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v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=1:M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=0:R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t-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H(i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(i) is the process ID of instanc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5T20:11:47Z</dcterms:created>
  <dc:creator>School of Computer Science</dc:creator>
  <dc:description/>
  <dc:language>en-US</dc:language>
  <cp:lastModifiedBy>School of Computer Science</cp:lastModifiedBy>
  <dcterms:modified xsi:type="dcterms:W3CDTF">2004-07-16T14:44:45Z</dcterms:modified>
  <cp:revision>5</cp:revision>
  <dc:subject/>
  <dc:title>Hidden Process Models</dc:title>
</cp:coreProperties>
</file>